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EC88-1DC7-47E9-A6E4-C6B0A87A2672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6920" y="123840"/>
            <a:ext cx="621684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1866960"/>
            <a:ext cx="91440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EXPRESS Data Definition Langua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Main Features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containing structure -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finition of objects - ENTIT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ttributes of the objects -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traints on the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ERIV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s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lobal RULEs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EXPRESS every value (attribute, local variable or formal parameter) has an associat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ypes can be classified as either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) SIMPL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) NAMED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) ENTITY TYPE, 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) DEFINED TYP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) AGGREGATION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) CONSTRU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) ENUMERATION, or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) SEL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mple data types are the basic types provided by the EXPRESS languag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UMB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OOLEAN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GICAL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6400" y="1257480"/>
            <a:ext cx="8496360" cy="45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TITY data type used to establish a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group_relationship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ame : label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escription : tex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lating_group : grou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lated_group : grou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grou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_name : label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_description : tex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62360" y="2682720"/>
            <a:ext cx="404208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_relationshi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entity has two attributes named having the data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is effectively relates the group_relationship with two group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d hence relates two groups to each oth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b.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305920" cy="51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of a DEFINED data type declared by a TYPE assigned by the modeller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identifier = STRING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label = STRING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text = STRING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54000" y="5408640"/>
            <a:ext cx="70455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attributes name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d, nam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, an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are all STRINGs.  However, the use of the defined data types help to clarify the meaning and context of the STR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55360" y="2400480"/>
            <a:ext cx="568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organization 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d : OPTIONAL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dentifier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8000" y="156960"/>
            <a:ext cx="8602920" cy="55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66760" y="1238040"/>
            <a:ext cx="8324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types are used to represent ordered or unordered collections of elements of some basic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assembly_design_structural_connection_intern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 OF (assembly_design_structural_connection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nnected_members : SET [2:?] OF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ssembly_design_structural_member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71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 may be either: ARRAY, BAG, LIST, or S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5240" y="82080"/>
            <a:ext cx="828648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9280" y="898560"/>
            <a:ext cx="8523360" cy="48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umeration data type is an ordered set of values represented by nam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57160" indent="-2854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values of the enumeration type are designated by enumeration_ids and are referred to as enumeration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ach enumeration item belongs only to the data type which defines it and must be unique within that type defini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action_source_accidenti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= ENUMERATION OF (fire, impulse, impact, undefined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b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66760" y="1219320"/>
            <a:ext cx="84772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lect data type defines a named collection of other typ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is collection is called the select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stance of a select data type is an instance of one of the types specified in the type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is allows an attribute or variable to be one of several types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type of an attribute is a select type, then it is defined to be one of the types in the select lis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assembly_component_selec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= SELECT (assembly_manufacturing_child, located_part, located_feature, located_joint_system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9320" y="88560"/>
            <a:ext cx="883908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omain Ru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162080"/>
            <a:ext cx="8477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omain rules specify constraints that restrict a defin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omain rules follow the WHERE keywor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Each domain rule evaluates to a logical (TRUE, FALSE, UNKNOWN) value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length_measure = REAL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positive_length_meas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= length_measur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R41T1 : SELF &gt; 0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54760" y="4549680"/>
            <a:ext cx="401292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y attribute, local variable or formal parameter declared to be of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positive_length_measur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is constrained to have only positive val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5840" y="304560"/>
            <a:ext cx="8534160" cy="5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7320" y="1217520"/>
            <a:ext cx="8458200" cy="472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subtype/supertype structure is the mechanism for specifying classification (or categorization) of object types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assembly 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BSTRACT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(ONEOF (assembly_design, assembly_manufactu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NDOR assembly_with_shape)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(structural_frame_product)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ssembly_sequence_number : OPTIONAL INTEGER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lexity : OPTIONAL complexity_level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A subtyp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herits</a:t>
            </a: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 all the attributes of its supertype(s)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3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and the attributes of the supertypes’ supertypes, etc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91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94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97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0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03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47680" y="11430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very attribute which as an entity as its data type, establishes an entity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 both directions!!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y default the inverse cardinality is [0:?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verse attributes are declared following the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keyword.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INVERSE clause constrains the relationship in the 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direc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verse attribute captures the relationship between the entity being referred to, and the named attribute of the referencing entity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 (Exampl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elements : SET [1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l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nodes : SET [2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d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node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ode_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node_name, parent_mod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51600" y="3713040"/>
            <a:ext cx="52704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lement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arent_model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element_name, parent_mod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193840" y="2712960"/>
            <a:ext cx="3422520" cy="1025640"/>
            <a:chOff x="2193840" y="2712960"/>
            <a:chExt cx="3422520" cy="1025640"/>
          </a:xfrm>
        </p:grpSpPr>
        <p:sp>
          <p:nvSpPr>
            <p:cNvPr id="153" name=""/>
            <p:cNvSpPr/>
            <p:nvPr/>
          </p:nvSpPr>
          <p:spPr>
            <a:xfrm>
              <a:off x="2193840" y="3030480"/>
              <a:ext cx="663840" cy="708120"/>
            </a:xfrm>
            <a:prstGeom prst="upDownArrow">
              <a:avLst>
                <a:gd name="adj1" fmla="val 50000"/>
                <a:gd name="adj2" fmla="val 2123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37040" y="2712960"/>
              <a:ext cx="663840" cy="909720"/>
            </a:xfrm>
            <a:prstGeom prst="upDownArrow">
              <a:avLst>
                <a:gd name="adj1" fmla="val 50000"/>
                <a:gd name="adj2" fmla="val 27281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8120" y="3127320"/>
              <a:ext cx="32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3300"/>
                  </a:solidFill>
                  <a:latin typeface="Univers"/>
                </a:rPr>
                <a:t>mutual dependency!!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7520" y="8568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8568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9360" y="-476100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-476100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420720" y="877680"/>
            <a:ext cx="5576760" cy="25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Graphical form of EX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illustrated EXPRESS data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esents a limited subset of EXPRESS langu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173800" y="423540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25360" y="3678120"/>
            <a:ext cx="287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7578720" y="5235480"/>
            <a:ext cx="1235160" cy="552600"/>
            <a:chOff x="7578720" y="5235480"/>
            <a:chExt cx="1235160" cy="552600"/>
          </a:xfrm>
        </p:grpSpPr>
        <p:sp>
          <p:nvSpPr>
            <p:cNvPr id="165" name=""/>
            <p:cNvSpPr/>
            <p:nvPr/>
          </p:nvSpPr>
          <p:spPr>
            <a:xfrm>
              <a:off x="7578720" y="5403600"/>
              <a:ext cx="12351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83440" y="52354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8672400" y="5411520"/>
              <a:ext cx="0" cy="37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063960" y="4978440"/>
            <a:ext cx="4004280" cy="1009440"/>
            <a:chOff x="3063960" y="4978440"/>
            <a:chExt cx="4004280" cy="1009440"/>
          </a:xfrm>
        </p:grpSpPr>
        <p:sp>
          <p:nvSpPr>
            <p:cNvPr id="169" name=""/>
            <p:cNvSpPr/>
            <p:nvPr/>
          </p:nvSpPr>
          <p:spPr>
            <a:xfrm>
              <a:off x="3304440" y="514512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63960" y="53053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40600" y="497844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311800" y="5110200"/>
              <a:ext cx="1756440" cy="374400"/>
              <a:chOff x="5311800" y="5110200"/>
              <a:chExt cx="1756440" cy="374400"/>
            </a:xfrm>
          </p:grpSpPr>
          <p:sp>
            <p:nvSpPr>
              <p:cNvPr id="173" name=""/>
              <p:cNvSpPr/>
              <p:nvPr/>
            </p:nvSpPr>
            <p:spPr>
              <a:xfrm>
                <a:off x="5311800" y="5262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468760" y="511344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6969960" y="511020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325840" y="5613120"/>
              <a:ext cx="1339200" cy="374760"/>
              <a:chOff x="5325840" y="5613120"/>
              <a:chExt cx="1339200" cy="374760"/>
            </a:xfrm>
          </p:grpSpPr>
          <p:sp>
            <p:nvSpPr>
              <p:cNvPr id="177" name=""/>
              <p:cNvSpPr/>
              <p:nvPr/>
            </p:nvSpPr>
            <p:spPr>
              <a:xfrm>
                <a:off x="5325840" y="5751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482800" y="561672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6567120" y="56131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0" name=""/>
            <p:cNvCxnSpPr>
              <a:stCxn id="169" idx="3"/>
              <a:endCxn id="173" idx="2"/>
            </p:cNvCxnSpPr>
            <p:nvPr/>
          </p:nvCxnSpPr>
          <p:spPr>
            <a:xfrm flipV="1">
              <a:off x="4250880" y="533808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"/>
            <p:cNvCxnSpPr>
              <a:stCxn id="169" idx="2"/>
              <a:endCxn id="177" idx="2"/>
            </p:cNvCxnSpPr>
            <p:nvPr/>
          </p:nvCxnSpPr>
          <p:spPr>
            <a:xfrm flipH="1" rot="16200000">
              <a:off x="4415400" y="493236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2" name=""/>
            <p:cNvSpPr/>
            <p:nvPr/>
          </p:nvSpPr>
          <p:spPr>
            <a:xfrm>
              <a:off x="4440240" y="546912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3" name=""/>
          <p:cNvCxnSpPr>
            <a:stCxn id="184" idx="2"/>
            <a:endCxn id="170" idx="2"/>
          </p:cNvCxnSpPr>
          <p:nvPr/>
        </p:nvCxnSpPr>
        <p:spPr>
          <a:xfrm flipH="1" rot="16200000">
            <a:off x="2482920" y="4846320"/>
            <a:ext cx="770400" cy="33552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312840" y="13381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131840" y="2548080"/>
            <a:ext cx="690480" cy="592560"/>
            <a:chOff x="1131840" y="2548080"/>
            <a:chExt cx="690480" cy="592560"/>
          </a:xfrm>
        </p:grpSpPr>
        <p:sp>
          <p:nvSpPr>
            <p:cNvPr id="187" name=""/>
            <p:cNvSpPr/>
            <p:nvPr/>
          </p:nvSpPr>
          <p:spPr>
            <a:xfrm>
              <a:off x="1131840" y="27702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82400" y="2548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1241280" y="27522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0" name=""/>
          <p:cNvCxnSpPr>
            <a:stCxn id="185" idx="2"/>
            <a:endCxn id="188" idx="0"/>
          </p:cNvCxnSpPr>
          <p:nvPr/>
        </p:nvCxnSpPr>
        <p:spPr>
          <a:xfrm>
            <a:off x="1472760" y="1777680"/>
            <a:ext cx="3960" cy="75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91" name=""/>
          <p:cNvGrpSpPr/>
          <p:nvPr/>
        </p:nvGrpSpPr>
        <p:grpSpPr>
          <a:xfrm>
            <a:off x="1693800" y="3598920"/>
            <a:ext cx="1792440" cy="398880"/>
            <a:chOff x="1693800" y="3598920"/>
            <a:chExt cx="1792440" cy="398880"/>
          </a:xfrm>
        </p:grpSpPr>
        <p:sp>
          <p:nvSpPr>
            <p:cNvPr id="192" name=""/>
            <p:cNvSpPr/>
            <p:nvPr/>
          </p:nvSpPr>
          <p:spPr>
            <a:xfrm>
              <a:off x="1917000" y="35989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93800" y="37004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1720800" y="4189320"/>
            <a:ext cx="1734840" cy="398880"/>
            <a:chOff x="1720800" y="4189320"/>
            <a:chExt cx="1734840" cy="398880"/>
          </a:xfrm>
        </p:grpSpPr>
        <p:sp>
          <p:nvSpPr>
            <p:cNvPr id="184" name=""/>
            <p:cNvSpPr/>
            <p:nvPr/>
          </p:nvSpPr>
          <p:spPr>
            <a:xfrm>
              <a:off x="1944360" y="418932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20800" y="4290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6" name=""/>
          <p:cNvCxnSpPr>
            <a:stCxn id="187" idx="2"/>
            <a:endCxn id="195" idx="2"/>
          </p:cNvCxnSpPr>
          <p:nvPr/>
        </p:nvCxnSpPr>
        <p:spPr>
          <a:xfrm flipH="1" rot="16200000">
            <a:off x="988560" y="3667680"/>
            <a:ext cx="1205640" cy="229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87" idx="2"/>
            <a:endCxn id="193" idx="2"/>
          </p:cNvCxnSpPr>
          <p:nvPr/>
        </p:nvCxnSpPr>
        <p:spPr>
          <a:xfrm flipH="1" rot="16200000">
            <a:off x="1271520" y="3385800"/>
            <a:ext cx="614880" cy="20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1438560" y="20239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5760" y="166536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24160" y="1674720"/>
            <a:ext cx="10296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960720" y="4056120"/>
            <a:ext cx="4189320" cy="508680"/>
            <a:chOff x="3960720" y="4056120"/>
            <a:chExt cx="4189320" cy="508680"/>
          </a:xfrm>
        </p:grpSpPr>
        <p:sp>
          <p:nvSpPr>
            <p:cNvPr id="202" name=""/>
            <p:cNvSpPr/>
            <p:nvPr/>
          </p:nvSpPr>
          <p:spPr>
            <a:xfrm>
              <a:off x="4197600" y="4165920"/>
              <a:ext cx="2899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ext_dependent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60720" y="43117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83800" y="405612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7111440" y="4424400"/>
              <a:ext cx="87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97760" y="4340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7" name=""/>
          <p:cNvCxnSpPr>
            <a:stCxn id="184" idx="3"/>
            <a:endCxn id="203" idx="2"/>
          </p:cNvCxnSpPr>
          <p:nvPr/>
        </p:nvCxnSpPr>
        <p:spPr>
          <a:xfrm>
            <a:off x="3484440" y="4401720"/>
            <a:ext cx="448560" cy="3960"/>
          </a:xfrm>
          <a:prstGeom prst="bentConnector3">
            <a:avLst>
              <a:gd name="adj1" fmla="val 51405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162" idx="2"/>
            <a:endCxn id="166" idx="0"/>
          </p:cNvCxnSpPr>
          <p:nvPr/>
        </p:nvCxnSpPr>
        <p:spPr>
          <a:xfrm rot="5400000">
            <a:off x="8043120" y="4760640"/>
            <a:ext cx="577080" cy="345240"/>
          </a:xfrm>
          <a:prstGeom prst="bentConnector3">
            <a:avLst>
              <a:gd name="adj1" fmla="val 49812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&amp;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70320" y="1668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78080" y="25081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30840" y="4280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>
            <a:stCxn id="214" idx="2"/>
            <a:endCxn id="212" idx="2"/>
          </p:cNvCxnSpPr>
          <p:nvPr/>
        </p:nvCxnSpPr>
        <p:spPr>
          <a:xfrm flipH="1" rot="16200000">
            <a:off x="2640240" y="1280880"/>
            <a:ext cx="2085120" cy="406584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15" name=""/>
          <p:cNvSpPr/>
          <p:nvPr/>
        </p:nvSpPr>
        <p:spPr>
          <a:xfrm>
            <a:off x="5688000" y="26449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4" idx="3"/>
            <a:endCxn id="217" idx="2"/>
          </p:cNvCxnSpPr>
          <p:nvPr/>
        </p:nvCxnSpPr>
        <p:spPr>
          <a:xfrm>
            <a:off x="3025800" y="2044440"/>
            <a:ext cx="2370960" cy="1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5410080" y="1968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9080" y="183204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34640" y="12063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75800" y="120636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35680" y="411804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71480" y="231768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5440" y="394164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16320" y="12063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09800" y="17971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250400" y="405144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600880" y="1836360"/>
            <a:ext cx="1363320" cy="376200"/>
            <a:chOff x="5600880" y="1836360"/>
            <a:chExt cx="1363320" cy="376200"/>
          </a:xfrm>
        </p:grpSpPr>
        <p:sp>
          <p:nvSpPr>
            <p:cNvPr id="227" name=""/>
            <p:cNvSpPr/>
            <p:nvPr/>
          </p:nvSpPr>
          <p:spPr>
            <a:xfrm>
              <a:off x="5600880" y="1836720"/>
              <a:ext cx="13633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6823080" y="183636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2338560" y="2038320"/>
            <a:ext cx="2872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2"/>
            <a:endCxn id="215" idx="2"/>
          </p:cNvCxnSpPr>
          <p:nvPr/>
        </p:nvCxnSpPr>
        <p:spPr>
          <a:xfrm flipH="1" rot="16200000">
            <a:off x="3836880" y="884880"/>
            <a:ext cx="481680" cy="319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31" name=""/>
          <p:cNvGrpSpPr/>
          <p:nvPr/>
        </p:nvGrpSpPr>
        <p:grpSpPr>
          <a:xfrm>
            <a:off x="5629320" y="3135240"/>
            <a:ext cx="1234800" cy="744480"/>
            <a:chOff x="5629320" y="3135240"/>
            <a:chExt cx="1234800" cy="744480"/>
          </a:xfrm>
        </p:grpSpPr>
        <p:sp>
          <p:nvSpPr>
            <p:cNvPr id="232" name=""/>
            <p:cNvSpPr/>
            <p:nvPr/>
          </p:nvSpPr>
          <p:spPr>
            <a:xfrm>
              <a:off x="5629320" y="3303720"/>
              <a:ext cx="123480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34040" y="31352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723000" y="331128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34040" y="3727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36" name=""/>
          <p:cNvCxnSpPr>
            <a:stCxn id="220" idx="0"/>
            <a:endCxn id="235" idx="4"/>
          </p:cNvCxnSpPr>
          <p:nvPr/>
        </p:nvCxnSpPr>
        <p:spPr>
          <a:xfrm flipV="1">
            <a:off x="6210000" y="3893760"/>
            <a:ext cx="1080" cy="21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211" idx="2"/>
            <a:endCxn id="233" idx="0"/>
          </p:cNvCxnSpPr>
          <p:nvPr/>
        </p:nvCxnSpPr>
        <p:spPr>
          <a:xfrm flipH="1" rot="16200000">
            <a:off x="6106680" y="3018240"/>
            <a:ext cx="20412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7250400" y="25480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09800" y="325584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-119160" y="4595760"/>
            <a:ext cx="48740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 : INTEG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 : OPTIONAL tex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4160" y="3375000"/>
            <a:ext cx="23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Optional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38360" y="17859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5" idx="3"/>
            <a:endCxn id="243" idx="2"/>
          </p:cNvCxnSpPr>
          <p:nvPr/>
        </p:nvCxnSpPr>
        <p:spPr>
          <a:xfrm>
            <a:off x="1825200" y="1857240"/>
            <a:ext cx="1599480" cy="5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1987560" y="1495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17280" y="164448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85480" y="1644480"/>
            <a:ext cx="1511280" cy="411120"/>
            <a:chOff x="285480" y="1644480"/>
            <a:chExt cx="1511280" cy="411120"/>
          </a:xfrm>
        </p:grpSpPr>
        <p:sp>
          <p:nvSpPr>
            <p:cNvPr id="245" name=""/>
            <p:cNvSpPr/>
            <p:nvPr/>
          </p:nvSpPr>
          <p:spPr>
            <a:xfrm>
              <a:off x="285480" y="16444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17240" y="19681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00120" y="19681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23920" y="3441600"/>
            <a:ext cx="436860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91920" y="33606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47" idx="2"/>
            <a:endCxn id="254" idx="2"/>
          </p:cNvCxnSpPr>
          <p:nvPr/>
        </p:nvCxnSpPr>
        <p:spPr>
          <a:xfrm flipH="1" rot="16200000">
            <a:off x="5782320" y="1347480"/>
            <a:ext cx="1129320" cy="2602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485280" y="109224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65160" y="10922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54080" y="109224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 Data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51920" y="282564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26400" y="227664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61" idx="2"/>
            <a:endCxn id="262" idx="2"/>
          </p:cNvCxnSpPr>
          <p:nvPr/>
        </p:nvCxnSpPr>
        <p:spPr>
          <a:xfrm flipH="1" rot="16200000">
            <a:off x="5022000" y="112428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3954600" y="189720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4" idx="2"/>
            <a:endCxn id="265" idx="2"/>
          </p:cNvCxnSpPr>
          <p:nvPr/>
        </p:nvCxnSpPr>
        <p:spPr>
          <a:xfrm flipH="1" rot="16200000">
            <a:off x="6483960" y="1516320"/>
            <a:ext cx="624600" cy="1702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5808600" y="189720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23160" y="302256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8669160" y="302220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62960" y="3137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61160" y="36734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824960" y="352728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642520" y="3527280"/>
            <a:ext cx="0" cy="3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7661160" y="2487240"/>
            <a:ext cx="1123920" cy="376200"/>
            <a:chOff x="7661160" y="2487240"/>
            <a:chExt cx="1123920" cy="376200"/>
          </a:xfrm>
        </p:grpSpPr>
        <p:sp>
          <p:nvSpPr>
            <p:cNvPr id="265" name=""/>
            <p:cNvSpPr/>
            <p:nvPr/>
          </p:nvSpPr>
          <p:spPr>
            <a:xfrm>
              <a:off x="7661160" y="260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840440" y="248760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8658000" y="248724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11320" y="126828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919080" y="2400480"/>
            <a:ext cx="3119400" cy="626040"/>
            <a:chOff x="919080" y="2400480"/>
            <a:chExt cx="3119400" cy="626040"/>
          </a:xfrm>
        </p:grpSpPr>
        <p:sp>
          <p:nvSpPr>
            <p:cNvPr id="276" name=""/>
            <p:cNvSpPr/>
            <p:nvPr/>
          </p:nvSpPr>
          <p:spPr>
            <a:xfrm>
              <a:off x="919080" y="2629080"/>
              <a:ext cx="3119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71680" y="24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8" name=""/>
          <p:cNvCxnSpPr>
            <a:stCxn id="274" idx="2"/>
            <a:endCxn id="277" idx="0"/>
          </p:cNvCxnSpPr>
          <p:nvPr/>
        </p:nvCxnSpPr>
        <p:spPr>
          <a:xfrm rot="5400000">
            <a:off x="2136960" y="2035800"/>
            <a:ext cx="664200" cy="864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2170080" y="18176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53800" y="123984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per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052880" y="2411280"/>
            <a:ext cx="4834440" cy="1326600"/>
            <a:chOff x="4052880" y="2411280"/>
            <a:chExt cx="4834440" cy="1326600"/>
          </a:xfrm>
        </p:grpSpPr>
        <p:grpSp>
          <p:nvGrpSpPr>
            <p:cNvPr id="282" name=""/>
            <p:cNvGrpSpPr/>
            <p:nvPr/>
          </p:nvGrpSpPr>
          <p:grpSpPr>
            <a:xfrm>
              <a:off x="4052880" y="2411280"/>
              <a:ext cx="4834440" cy="762840"/>
              <a:chOff x="4052880" y="2411280"/>
              <a:chExt cx="4834440" cy="762840"/>
            </a:xfrm>
          </p:grpSpPr>
          <p:grpSp>
            <p:nvGrpSpPr>
              <p:cNvPr id="283" name=""/>
              <p:cNvGrpSpPr/>
              <p:nvPr/>
            </p:nvGrpSpPr>
            <p:grpSpPr>
              <a:xfrm>
                <a:off x="5656320" y="2470320"/>
                <a:ext cx="3231000" cy="703800"/>
                <a:chOff x="5656320" y="2470320"/>
                <a:chExt cx="3231000" cy="70380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5873400" y="2470320"/>
                  <a:ext cx="301392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structural_frame_produc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_with_materi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656320" y="2746440"/>
                  <a:ext cx="18108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86" name=""/>
              <p:cNvCxnSpPr>
                <a:stCxn id="276" idx="3"/>
                <a:endCxn id="285" idx="2"/>
              </p:cNvCxnSpPr>
              <p:nvPr/>
            </p:nvCxnSpPr>
            <p:spPr>
              <a:xfrm flipV="1">
                <a:off x="4052880" y="2839680"/>
                <a:ext cx="1575360" cy="2160"/>
              </a:xfrm>
              <a:prstGeom prst="bentConnector3">
                <a:avLst>
                  <a:gd name="adj1" fmla="val 50400"/>
                </a:avLst>
              </a:prstGeom>
              <a:ln w="76320">
                <a:solidFill>
                  <a:srgbClr val="000000"/>
                </a:solidFill>
                <a:miter/>
              </a:ln>
            </p:spPr>
          </p:cxnSp>
          <p:sp>
            <p:nvSpPr>
              <p:cNvPr id="287" name=""/>
              <p:cNvSpPr/>
              <p:nvPr/>
            </p:nvSpPr>
            <p:spPr>
              <a:xfrm>
                <a:off x="4454640" y="2411280"/>
                <a:ext cx="10058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AND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6691680" y="3278160"/>
              <a:ext cx="138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13560" y="3068280"/>
            <a:ext cx="2851200" cy="2788560"/>
            <a:chOff x="313560" y="3068280"/>
            <a:chExt cx="2851200" cy="2788560"/>
          </a:xfrm>
        </p:grpSpPr>
        <p:grpSp>
          <p:nvGrpSpPr>
            <p:cNvPr id="290" name=""/>
            <p:cNvGrpSpPr/>
            <p:nvPr/>
          </p:nvGrpSpPr>
          <p:grpSpPr>
            <a:xfrm>
              <a:off x="313560" y="3068280"/>
              <a:ext cx="2166120" cy="2788560"/>
              <a:chOff x="313560" y="3068280"/>
              <a:chExt cx="2166120" cy="278856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949680" y="4068720"/>
                <a:ext cx="858240" cy="398880"/>
                <a:chOff x="949680" y="4068720"/>
                <a:chExt cx="858240" cy="3988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949680" y="4068720"/>
                  <a:ext cx="61956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par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620720" y="4170240"/>
                  <a:ext cx="187200" cy="18756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73480" y="3541680"/>
                <a:ext cx="1234440" cy="398880"/>
                <a:chOff x="573480" y="3541680"/>
                <a:chExt cx="1234440" cy="39888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73480" y="3541680"/>
                  <a:ext cx="1002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coatin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1620720" y="36576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472320" y="4589640"/>
                <a:ext cx="1335240" cy="398880"/>
                <a:chOff x="472320" y="4589640"/>
                <a:chExt cx="1335240" cy="3988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472320" y="4589640"/>
                  <a:ext cx="1101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fasten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1620360" y="47070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0" name=""/>
              <p:cNvSpPr/>
              <p:nvPr/>
            </p:nvSpPr>
            <p:spPr>
              <a:xfrm>
                <a:off x="2123640" y="3276720"/>
                <a:ext cx="3232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01" name=""/>
              <p:cNvCxnSpPr>
                <a:stCxn id="276" idx="2"/>
                <a:endCxn id="296" idx="6"/>
              </p:cNvCxnSpPr>
              <p:nvPr/>
            </p:nvCxnSpPr>
            <p:spPr>
              <a:xfrm rot="5400000">
                <a:off x="1816920" y="3088440"/>
                <a:ext cx="68292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02" name=""/>
              <p:cNvCxnSpPr>
                <a:stCxn id="276" idx="2"/>
                <a:endCxn id="293" idx="6"/>
              </p:cNvCxnSpPr>
              <p:nvPr/>
            </p:nvCxnSpPr>
            <p:spPr>
              <a:xfrm rot="5400000">
                <a:off x="1560240" y="3344760"/>
                <a:ext cx="11962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03" name=""/>
              <p:cNvCxnSpPr>
                <a:stCxn id="276" idx="2"/>
                <a:endCxn id="299" idx="6"/>
              </p:cNvCxnSpPr>
              <p:nvPr/>
            </p:nvCxnSpPr>
            <p:spPr>
              <a:xfrm rot="5400000">
                <a:off x="1292040" y="3612960"/>
                <a:ext cx="17326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grpSp>
            <p:nvGrpSpPr>
              <p:cNvPr id="304" name=""/>
              <p:cNvGrpSpPr/>
              <p:nvPr/>
            </p:nvGrpSpPr>
            <p:grpSpPr>
              <a:xfrm>
                <a:off x="313560" y="5153040"/>
                <a:ext cx="1479960" cy="703800"/>
                <a:chOff x="313560" y="5153040"/>
                <a:chExt cx="1479960" cy="70380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313560" y="5153040"/>
                  <a:ext cx="125820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(ABS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assembl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1606320" y="54432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07" name=""/>
              <p:cNvCxnSpPr>
                <a:stCxn id="276" idx="2"/>
                <a:endCxn id="306" idx="6"/>
              </p:cNvCxnSpPr>
              <p:nvPr/>
            </p:nvCxnSpPr>
            <p:spPr>
              <a:xfrm rot="5400000">
                <a:off x="916200" y="3974040"/>
                <a:ext cx="2469240" cy="65808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08" name=""/>
            <p:cNvSpPr/>
            <p:nvPr/>
          </p:nvSpPr>
          <p:spPr>
            <a:xfrm rot="16200000">
              <a:off x="2159280" y="440064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2824560" y="209700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b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31920" y="3997440"/>
            <a:ext cx="628704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 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NE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assembly,coating, part, fasten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tructural_frame_product_with_mater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structural_frame_ite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fe_cycle_stage : OPTIONAL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847960" y="1933560"/>
            <a:ext cx="4005000" cy="1009440"/>
            <a:chOff x="2847960" y="1933560"/>
            <a:chExt cx="4005000" cy="1009440"/>
          </a:xfrm>
        </p:grpSpPr>
        <p:sp>
          <p:nvSpPr>
            <p:cNvPr id="313" name=""/>
            <p:cNvSpPr/>
            <p:nvPr/>
          </p:nvSpPr>
          <p:spPr>
            <a:xfrm>
              <a:off x="3088800" y="210024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47960" y="22604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4960" y="193356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5096160" y="2065320"/>
              <a:ext cx="1756800" cy="374400"/>
              <a:chOff x="5096160" y="2065320"/>
              <a:chExt cx="1756800" cy="374400"/>
            </a:xfrm>
          </p:grpSpPr>
          <p:sp>
            <p:nvSpPr>
              <p:cNvPr id="317" name=""/>
              <p:cNvSpPr/>
              <p:nvPr/>
            </p:nvSpPr>
            <p:spPr>
              <a:xfrm>
                <a:off x="5096160" y="2217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253120" y="2068560"/>
                <a:ext cx="15998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6754680" y="206532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5110200" y="2568240"/>
              <a:ext cx="1339920" cy="374760"/>
              <a:chOff x="5110200" y="2568240"/>
              <a:chExt cx="1339920" cy="374760"/>
            </a:xfrm>
          </p:grpSpPr>
          <p:sp>
            <p:nvSpPr>
              <p:cNvPr id="321" name=""/>
              <p:cNvSpPr/>
              <p:nvPr/>
            </p:nvSpPr>
            <p:spPr>
              <a:xfrm>
                <a:off x="5110200" y="270684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267520" y="2571840"/>
                <a:ext cx="118260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6351840" y="256824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24" name=""/>
            <p:cNvCxnSpPr>
              <a:stCxn id="313" idx="3"/>
              <a:endCxn id="317" idx="2"/>
            </p:cNvCxnSpPr>
            <p:nvPr/>
          </p:nvCxnSpPr>
          <p:spPr>
            <a:xfrm flipV="1">
              <a:off x="4035600" y="2293200"/>
              <a:ext cx="104688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25" name=""/>
            <p:cNvCxnSpPr>
              <a:stCxn id="313" idx="2"/>
              <a:endCxn id="321" idx="2"/>
            </p:cNvCxnSpPr>
            <p:nvPr/>
          </p:nvCxnSpPr>
          <p:spPr>
            <a:xfrm flipH="1" rot="16200000">
              <a:off x="4200840" y="1887120"/>
              <a:ext cx="243360" cy="1548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26" name=""/>
            <p:cNvSpPr/>
            <p:nvPr/>
          </p:nvSpPr>
          <p:spPr>
            <a:xfrm>
              <a:off x="4224960" y="242424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020600" y="1247760"/>
            <a:ext cx="1511280" cy="411120"/>
            <a:chOff x="1020600" y="1247760"/>
            <a:chExt cx="1511280" cy="411120"/>
          </a:xfrm>
        </p:grpSpPr>
        <p:sp>
          <p:nvSpPr>
            <p:cNvPr id="328" name=""/>
            <p:cNvSpPr/>
            <p:nvPr/>
          </p:nvSpPr>
          <p:spPr>
            <a:xfrm>
              <a:off x="1020600" y="12477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5236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3524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1" name=""/>
          <p:cNvCxnSpPr>
            <a:stCxn id="330" idx="2"/>
            <a:endCxn id="314" idx="2"/>
          </p:cNvCxnSpPr>
          <p:nvPr/>
        </p:nvCxnSpPr>
        <p:spPr>
          <a:xfrm flipH="1" rot="16200000">
            <a:off x="2205000" y="1739520"/>
            <a:ext cx="696240" cy="534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2" name=""/>
          <p:cNvSpPr/>
          <p:nvPr/>
        </p:nvSpPr>
        <p:spPr>
          <a:xfrm>
            <a:off x="1917360" y="1801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70680" y="2068560"/>
            <a:ext cx="20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ume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120" y="2602080"/>
            <a:ext cx="8750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i_uni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ENUMERATION OF (METRE, GRAM,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COND, AMPER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LVIN, MOLE, CANDELA, RADIAN, STERADIAN, HERTZ, NEWTON, PASCAL, JOULE, WATT, COULOMB, VOLT, FARAD, OHM, SIEMENS, WEBER, TESLA, HENRY, DEGREE_CELSIUS, LUMEN, LUX, BECQUEREL, GRAY, SIEVER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35920" y="168588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5400" y="17208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29080" y="18255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865080" y="17035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336" idx="1"/>
            <a:endCxn id="338" idx="6"/>
          </p:cNvCxnSpPr>
          <p:nvPr/>
        </p:nvCxnSpPr>
        <p:spPr>
          <a:xfrm flipH="1">
            <a:off x="2835000" y="1898280"/>
            <a:ext cx="24739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1" name=""/>
          <p:cNvSpPr/>
          <p:nvPr/>
        </p:nvSpPr>
        <p:spPr>
          <a:xfrm>
            <a:off x="3112560" y="15177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40520" y="33764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52640" y="3191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14520" y="33764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47" idx="2"/>
            <a:endCxn id="344" idx="0"/>
          </p:cNvCxnSpPr>
          <p:nvPr/>
        </p:nvCxnSpPr>
        <p:spPr>
          <a:xfrm>
            <a:off x="1123560" y="2975040"/>
            <a:ext cx="5400" cy="202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8" name=""/>
          <p:cNvSpPr/>
          <p:nvPr/>
        </p:nvSpPr>
        <p:spPr>
          <a:xfrm>
            <a:off x="1112760" y="37749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16720" y="2565360"/>
            <a:ext cx="2002680" cy="368280"/>
            <a:chOff x="216720" y="2565360"/>
            <a:chExt cx="2002680" cy="368280"/>
          </a:xfrm>
        </p:grpSpPr>
        <p:sp>
          <p:nvSpPr>
            <p:cNvPr id="347" name=""/>
            <p:cNvSpPr/>
            <p:nvPr/>
          </p:nvSpPr>
          <p:spPr>
            <a:xfrm>
              <a:off x="216720" y="256536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066760" y="2697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2336760" y="200664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51" idx="2"/>
            <a:endCxn id="350" idx="6"/>
          </p:cNvCxnSpPr>
          <p:nvPr/>
        </p:nvCxnSpPr>
        <p:spPr>
          <a:xfrm rot="5400000">
            <a:off x="2006640" y="2334240"/>
            <a:ext cx="66564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53" name=""/>
          <p:cNvCxnSpPr>
            <a:stCxn id="351" idx="2"/>
            <a:endCxn id="354" idx="6"/>
          </p:cNvCxnSpPr>
          <p:nvPr/>
        </p:nvCxnSpPr>
        <p:spPr>
          <a:xfrm rot="5400000">
            <a:off x="1168200" y="3172320"/>
            <a:ext cx="234216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55" name=""/>
          <p:cNvCxnSpPr>
            <a:stCxn id="348" idx="4"/>
            <a:endCxn id="356" idx="0"/>
          </p:cNvCxnSpPr>
          <p:nvPr/>
        </p:nvCxnSpPr>
        <p:spPr>
          <a:xfrm flipH="1">
            <a:off x="1185120" y="3941640"/>
            <a:ext cx="396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57" name=""/>
          <p:cNvGrpSpPr/>
          <p:nvPr/>
        </p:nvGrpSpPr>
        <p:grpSpPr>
          <a:xfrm>
            <a:off x="315720" y="4241880"/>
            <a:ext cx="1903680" cy="368280"/>
            <a:chOff x="315720" y="4241880"/>
            <a:chExt cx="1903680" cy="368280"/>
          </a:xfrm>
        </p:grpSpPr>
        <p:sp>
          <p:nvSpPr>
            <p:cNvPr id="356" name=""/>
            <p:cNvSpPr/>
            <p:nvPr/>
          </p:nvSpPr>
          <p:spPr>
            <a:xfrm>
              <a:off x="315720" y="424188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066760" y="43736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6446880" y="20224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29040" y="12034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25720" y="229392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length_measure, mass_meas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length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mass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7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92800" y="2979720"/>
            <a:ext cx="4505040" cy="31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Origin in STEP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Its Rol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Its use in LPM/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ain featur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335920" y="157464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6154560" y="2481120"/>
            <a:ext cx="690840" cy="593640"/>
            <a:chOff x="6154560" y="2481120"/>
            <a:chExt cx="690840" cy="593640"/>
          </a:xfrm>
        </p:grpSpPr>
        <p:sp>
          <p:nvSpPr>
            <p:cNvPr id="364" name=""/>
            <p:cNvSpPr/>
            <p:nvPr/>
          </p:nvSpPr>
          <p:spPr>
            <a:xfrm>
              <a:off x="6154560" y="2703600"/>
              <a:ext cx="69084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405480" y="24811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64360" y="26859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7" name=""/>
          <p:cNvCxnSpPr>
            <a:stCxn id="362" idx="2"/>
            <a:endCxn id="365" idx="0"/>
          </p:cNvCxnSpPr>
          <p:nvPr/>
        </p:nvCxnSpPr>
        <p:spPr>
          <a:xfrm>
            <a:off x="6496200" y="2014200"/>
            <a:ext cx="3600" cy="453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68" name=""/>
          <p:cNvGrpSpPr/>
          <p:nvPr/>
        </p:nvGrpSpPr>
        <p:grpSpPr>
          <a:xfrm>
            <a:off x="7120080" y="3243240"/>
            <a:ext cx="1792440" cy="398880"/>
            <a:chOff x="7120080" y="3243240"/>
            <a:chExt cx="1792440" cy="398880"/>
          </a:xfrm>
        </p:grpSpPr>
        <p:sp>
          <p:nvSpPr>
            <p:cNvPr id="369" name=""/>
            <p:cNvSpPr/>
            <p:nvPr/>
          </p:nvSpPr>
          <p:spPr>
            <a:xfrm>
              <a:off x="7343280" y="324324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120080" y="33447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7147080" y="3833640"/>
            <a:ext cx="1734840" cy="398880"/>
            <a:chOff x="7147080" y="3833640"/>
            <a:chExt cx="1734840" cy="398880"/>
          </a:xfrm>
        </p:grpSpPr>
        <p:sp>
          <p:nvSpPr>
            <p:cNvPr id="372" name=""/>
            <p:cNvSpPr/>
            <p:nvPr/>
          </p:nvSpPr>
          <p:spPr>
            <a:xfrm>
              <a:off x="7370640" y="383364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47080" y="3935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4" name=""/>
          <p:cNvCxnSpPr>
            <a:stCxn id="364" idx="2"/>
            <a:endCxn id="373" idx="2"/>
          </p:cNvCxnSpPr>
          <p:nvPr/>
        </p:nvCxnSpPr>
        <p:spPr>
          <a:xfrm flipH="1" rot="16200000">
            <a:off x="6357600" y="3254760"/>
            <a:ext cx="91692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5" name=""/>
          <p:cNvCxnSpPr>
            <a:stCxn id="364" idx="2"/>
            <a:endCxn id="370" idx="2"/>
          </p:cNvCxnSpPr>
          <p:nvPr/>
        </p:nvCxnSpPr>
        <p:spPr>
          <a:xfrm flipH="1" rot="16200000">
            <a:off x="6640560" y="297288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6" name=""/>
          <p:cNvSpPr/>
          <p:nvPr/>
        </p:nvSpPr>
        <p:spPr>
          <a:xfrm>
            <a:off x="6518880" y="20430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25400" y="160956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629080" y="1714680"/>
            <a:ext cx="19188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865080" y="159228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62" idx="1"/>
            <a:endCxn id="378" idx="6"/>
          </p:cNvCxnSpPr>
          <p:nvPr/>
        </p:nvCxnSpPr>
        <p:spPr>
          <a:xfrm flipH="1">
            <a:off x="2835000" y="1787400"/>
            <a:ext cx="2473920" cy="21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1" name=""/>
          <p:cNvSpPr/>
          <p:nvPr/>
        </p:nvSpPr>
        <p:spPr>
          <a:xfrm>
            <a:off x="3112560" y="140652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08480" y="19018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336760" y="189540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446880" y="191124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925320" y="264780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85840" y="222732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measure_val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ived_unit, 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deriv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74080" y="3348000"/>
            <a:ext cx="35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A[1:3] A[1: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90" idx="2"/>
            <a:endCxn id="391" idx="2"/>
          </p:cNvCxnSpPr>
          <p:nvPr/>
        </p:nvCxnSpPr>
        <p:spPr>
          <a:xfrm flipH="1" rot="16200000">
            <a:off x="2950200" y="1361880"/>
            <a:ext cx="726120" cy="2145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2475000" y="24256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94" idx="2"/>
            <a:endCxn id="395" idx="2"/>
          </p:cNvCxnSpPr>
          <p:nvPr/>
        </p:nvCxnSpPr>
        <p:spPr>
          <a:xfrm flipH="1" rot="16200000">
            <a:off x="1759680" y="111132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96" name=""/>
          <p:cNvGrpSpPr/>
          <p:nvPr/>
        </p:nvGrpSpPr>
        <p:grpSpPr>
          <a:xfrm>
            <a:off x="352800" y="1631880"/>
            <a:ext cx="3777480" cy="411120"/>
            <a:chOff x="352800" y="1631880"/>
            <a:chExt cx="3777480" cy="411120"/>
          </a:xfrm>
        </p:grpSpPr>
        <p:sp>
          <p:nvSpPr>
            <p:cNvPr id="390" name=""/>
            <p:cNvSpPr/>
            <p:nvPr/>
          </p:nvSpPr>
          <p:spPr>
            <a:xfrm>
              <a:off x="352800" y="1631880"/>
              <a:ext cx="3777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_stationary_m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2280" y="1884240"/>
              <a:ext cx="2728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546280" y="1884240"/>
              <a:ext cx="27324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4560840" y="260676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407200" y="260640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00640" y="27208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98840" y="36608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562640" y="351468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5380200" y="3514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58320" y="397980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wo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60120" y="205884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e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-62280" y="4871880"/>
            <a:ext cx="76431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element_point_stationary_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: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: ARRAY [1:3] OF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Claus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439640" y="130500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2960" y="221940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254160" y="25858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01520" y="25034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126080" y="235116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257560" y="21891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3480120" y="115740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4088160" y="2046240"/>
            <a:ext cx="4776480" cy="784080"/>
            <a:chOff x="4088160" y="2046240"/>
            <a:chExt cx="4776480" cy="784080"/>
          </a:xfrm>
        </p:grpSpPr>
        <p:sp>
          <p:nvSpPr>
            <p:cNvPr id="414" name=""/>
            <p:cNvSpPr/>
            <p:nvPr/>
          </p:nvSpPr>
          <p:spPr>
            <a:xfrm>
              <a:off x="4088160" y="234936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6858000" y="240660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697960" y="2344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6946920" y="240660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6870240" y="275400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712360" y="26780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43600" y="204624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91000" y="2182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893520" y="176832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84600" y="15796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06" idx="3"/>
            <a:endCxn id="421" idx="0"/>
          </p:cNvCxnSpPr>
          <p:nvPr/>
        </p:nvCxnSpPr>
        <p:spPr>
          <a:xfrm>
            <a:off x="3274920" y="1517760"/>
            <a:ext cx="2193120" cy="651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25" name=""/>
          <p:cNvCxnSpPr>
            <a:stCxn id="406" idx="2"/>
            <a:endCxn id="411" idx="0"/>
          </p:cNvCxnSpPr>
          <p:nvPr/>
        </p:nvCxnSpPr>
        <p:spPr>
          <a:xfrm rot="5400000">
            <a:off x="2123280" y="1953720"/>
            <a:ext cx="430920" cy="11880"/>
          </a:xfrm>
          <a:prstGeom prst="bentConnector3">
            <a:avLst>
              <a:gd name="adj1" fmla="val 497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586080" y="1162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571680" y="152892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9040" y="14461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3399840" y="1547640"/>
            <a:ext cx="488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INV) representations_in_context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-140400" y="2797200"/>
            <a:ext cx="949176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: SET [1:?] OF representation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 :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identifier : identifi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type : 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ations_in_context : SET [1:?] OF representation FOR context_of_item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433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436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3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42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45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49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533840" y="3936960"/>
            <a:ext cx="432432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: Its origin in STE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needed a modelling language that was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ependent of a storage or programming paradigm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changeable in ASCII between different computers using different operating system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fficiently rigorous to define all the constraints  required to model product data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mpilable into a schema for at least one of the following: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 exchange fil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1 Implementation form)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shared memory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2 Implementation form)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shared logical databas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3 Implementation form)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share knowledge bas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4 Implementation form)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tandard language for data specifi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ms a neutral computer processable conceptual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n be parsed into a variety of format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e.g. SQL, C++, FORTRAN)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t allows a data model of a product to be defined in terms of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schema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ing enti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ttribute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constraint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Role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PRESS has been created specifically to define the information throughout a product’s life-cycl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itself does not provide for the definition of database formats, file formats, or transfer syntax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Other parts of ISO 10303 provide for mappings from EXPRESS schemata to implementation forms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e.g. ISO 10303-21 which defines the exchange file format)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data models are used to generate the data structures held within the STEP physical file using the mappings defined in the standard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However, the STEP physical file format is totally independent of EXPRES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se of EXPRESS in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is the key component of CIS/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aphically presented in EXPRESS-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mally specified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(containing definitions of specialized constructs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(implementation schem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EXPRESS Short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short form'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vides illustrated descriptions of LPM/5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ith their attributes &amp; formal propositions (rules &amp; constraints)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ogether with references to STEP resources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t does not repeat the definitions of those STEP entities that have been used from the Generic Resource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Interfac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Typ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Entiti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Rul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 Declarations -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for Function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EXPRESS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long form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e single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ll the inter-schema references resolv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 no definitions or explanation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rely an EXPRESS long form listing of the CIS/2 implementation schem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 - STRUCTURAL_FRAME_SCHEM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Typ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Enti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ul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imported) R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Fun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cp:lastPrinted>1999-02-12T09:16:18Z</cp:lastPrinted>
  <dcterms:modified xsi:type="dcterms:W3CDTF">2000-08-31T10:45:56Z</dcterms:modified>
  <cp:revision>90</cp:revision>
  <dc:subject/>
  <dc:title>EXPRESS</dc:title>
</cp:coreProperties>
</file>